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5D5-5ABF-45C1-A4F6-9332DE85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220-E5D6-4CB4-8227-2BBB57C4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E59-F439-4AE2-8D7F-3EDC8AED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3F8-ECDD-47E4-BCD0-FE75F4DB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225-681A-4F7A-B903-1D5B6BB1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96B-FB26-4AC8-9C28-42783208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885-24AC-4486-B904-9DE8E89A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6C6-CD26-42EB-BA96-EBBE1D4B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8D3-723F-418B-869F-5E496007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D1F-2794-4A58-8368-D24BD87E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320-9C1A-41C1-960C-17763D47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E15-A687-4A4C-BB97-98123B4D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3D40-6EDD-4491-86CB-08D3907E9E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61560" y="1981080"/>
            <a:ext cx="716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ow Can Dis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e Misclassified 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19920" y="2209680"/>
            <a:ext cx="304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2209680"/>
            <a:ext cx="3049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4724280"/>
            <a:ext cx="304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4724280"/>
            <a:ext cx="304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990720"/>
            <a:ext cx="7924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classifying Disease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2822400"/>
            <a:ext cx="7543800" cy="327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898720"/>
            <a:ext cx="6933960" cy="327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70866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8880" y="609480"/>
            <a:ext cx="1600200" cy="556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313320" y="3581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369720" cy="41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315200" y="4572000"/>
            <a:ext cx="182880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1828800" y="5486400"/>
            <a:ext cx="17524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3:43:41Z</dcterms:modified>
  <cp:revision>216</cp:revision>
  <dc:subject/>
  <dc:title>Slide 1</dc:title>
</cp:coreProperties>
</file>